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FA1-7ACE-438D-8A99-05007655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1B7-53AC-4E00-A0EA-D47FC6C7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F91-1A0B-45F7-BB7C-61D812E7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863-A533-4D58-B4D2-C7FAD460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7DE-52B9-431D-88CE-B5EE71C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A95-F8C4-4B33-B943-C848F0D6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A5C-79F0-43E4-ADFE-ACD599D6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5CC-7EEF-491A-9C46-A458A36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87F-2D5C-4EF9-B65B-3642B40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4FA-1D20-43D9-BBEC-870AED11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0CC-ED9B-4729-80D2-64E99BC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AC7-51FE-4EB7-B769-74DE2A31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119-2EFA-4DDF-A4DB-238C6C25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rew and Garr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lp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s national sports are soccer and rug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oules is a kind of bowling French people play in town square all around Fr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ffel T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ffel Tower is in the capital city of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980ft high and is one of the best-known sight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vers and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ne of the most popular river in France is the Seine. The Seine flows right Paris. It is a very shallow river but very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yrenees mountain range is the border between Spain and F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ance speak the language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1% of France are Catholics, 31% are atheists. 4% Muslims And 3% Je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apital of France is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ance’s money are Eu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ench money is counted in franc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is famous for its viney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es are used to make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e is put in huge wooden barrels before it is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eese is a big part of Frances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oissants are ate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orange and lemon festival in Menton is to celebrate the harv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e To Franc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chael March, pgs. 7,17,18,28,29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nry Pluckrose, pgs. 7,8,9,14,18,19,23,24,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d Out About Fr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ncan Crosbie, pgs.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yre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3:53Z</dcterms:created>
  <dc:creator>thomasramsey</dc:creator>
  <dc:description/>
  <dc:language>en-US</dc:language>
  <cp:lastModifiedBy>thomasramsey</cp:lastModifiedBy>
  <dcterms:modified xsi:type="dcterms:W3CDTF">2009-02-11T19:37:33Z</dcterms:modified>
  <cp:revision>7</cp:revision>
  <dc:subject/>
  <dc:title>France</dc:title>
</cp:coreProperties>
</file>